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C161-7492-4996-8E9A-17E8DFCB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9BF7-C978-40E5-9F35-65E6836C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A755-8BBA-4663-88C3-C83FE40F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AA71-D033-417D-B42D-3AE7FE92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F298-B653-4EA3-B047-EF0879F2D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62E9-AF96-4935-9179-61CBB6AE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7B3D-DA1F-4A16-A082-A3B77E7E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6946-321E-4A4C-9E8B-B8A0A135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3B3A-4000-4D37-AAFC-2C875CAF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8550-8070-42C8-BAEF-E17A8EF9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A3D9-3AF0-4475-8D9E-BF2191B3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C6E2-2B81-45FB-822B-8A935A1D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E1B1-89C5-4C4E-A0B9-079AC809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081C-09C1-4D36-993F-1E3B32AB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F5B8-7BC2-4890-A952-60B7BBE8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2715-444B-4F37-A01D-329A1763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F714-55A4-418C-9482-CD090360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F9760-9423-48FF-AD8B-376CEF28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2E8B6-F373-4EF3-BBF9-407F05E4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75A49-AA57-4413-AA96-64ECCDD6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07ACF-9C60-4105-BEEC-D29B2CBC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D2B14-D5AA-4411-9760-38832967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B9AE-01CE-4E0E-A3E2-8D2EF500E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6AEBC-CE44-429B-AAAB-307EEF94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43E44-630B-44B3-AD29-E4272CD7D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7F024-3939-49DE-80F1-CF7E8296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DEB7C-2B35-4116-979F-74D9F180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CE7ED-E25B-4EA3-A49B-3B81252E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BF015-61D8-4B52-B051-D59C501A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6A1AA-F595-4B7E-A157-DDB00545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C07C3-35E5-4226-ADE4-FFE66941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E1825-9293-449C-BF24-CC3E3784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E90C0-37CA-4752-B475-C40A0952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1738-3B3E-477F-AC31-14D37BB5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35106-4FCC-45BD-98A5-1AC1DCCF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61B51-1D88-441C-B3FA-EA6891E5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977D1-99B4-4BAB-8A9D-C2A192CB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78CD5-A593-4B0F-A8F8-8556A6BC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181C2-AB57-457E-AC7D-BE9E7B51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88C51-1B4D-4C99-926B-AB667F32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1781B-3D7C-4324-A3D5-7A57CD48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CFFAE-4FF9-41DF-9C4B-EE22A489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54CE9-7DD4-440E-BA55-59B238D7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69FE-1758-4FB5-B976-A8DAF5FA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059-399B-4E48-83D1-8A9EE77F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3376-650D-407D-98B6-B7710CC4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1B7C-FF78-4E54-B5D7-557B2EFA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EB04-829D-4497-9E79-02A243FB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E888-B9E3-46D4-9168-2F19FC3B06C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F73A-43A0-481C-B785-A2AB37B02C8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EC76-8799-4BA1-9E07-A18ACD3F3D1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E0D1-4F4D-4BD0-B75A-EC568BE8093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437680" cy="1908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ackground Informa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a Limiting Factor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28600" y="1828440"/>
            <a:ext cx="46483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Limiting Factors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re…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two similar definitions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>
              <a:spcBef>
                <a:spcPts val="7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conditions of the environment that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onstantia"/>
              </a:rPr>
              <a:t>limit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 the growth of a species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556200" indent="-213840">
              <a:spcBef>
                <a:spcPts val="7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biotic and abiotic factors that prevent the continuous growth of a population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avandegrift\AppData\Local\Microsoft\Windows\Temporary Internet Files\Content.IE5\66PBTUUR\MPj04372680000[1].jpg"/>
          <p:cNvPicPr/>
          <p:nvPr/>
        </p:nvPicPr>
        <p:blipFill>
          <a:blip r:embed="rId1"/>
          <a:stretch/>
        </p:blipFill>
        <p:spPr>
          <a:xfrm>
            <a:off x="4876920" y="2789280"/>
            <a:ext cx="403848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a Limiting Factor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28600" y="2087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Populations would continue to increase if they had all of the resources they require in unlimited amounts, but there are always </a:t>
            </a: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factors that limit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ir increase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Limiting factors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ontrol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population growth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C:\Users\cmatthaei\Desktop\Misc. Stuff\Best Hawaii Pics\DSC_0229132.jpg"/>
          <p:cNvPicPr/>
          <p:nvPr/>
        </p:nvPicPr>
        <p:blipFill>
          <a:blip r:embed="rId1"/>
          <a:stretch/>
        </p:blipFill>
        <p:spPr>
          <a:xfrm>
            <a:off x="5334120" y="4114800"/>
            <a:ext cx="35431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et’s list some Limiting Factors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Carrying Capacit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163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ause of these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limiting factors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, each ecosystem has a finite capacity for growth connected to its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carrying capacity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2" descr="C:\Users\cmatthaei\Desktop\Misc. Stuff\Best Hawaii Pics\IMG_0534.JPG"/>
          <p:cNvPicPr/>
          <p:nvPr/>
        </p:nvPicPr>
        <p:blipFill>
          <a:blip r:embed="rId1"/>
          <a:stretch/>
        </p:blipFill>
        <p:spPr>
          <a:xfrm>
            <a:off x="4876920" y="3962520"/>
            <a:ext cx="3419280" cy="2279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C:\Users\cmatthaei\Desktop\Misc. Stuff\Best Hawaii Pics\IMG_0566.JPG"/>
          <p:cNvPicPr/>
          <p:nvPr/>
        </p:nvPicPr>
        <p:blipFill>
          <a:blip r:embed="rId2"/>
          <a:stretch/>
        </p:blipFill>
        <p:spPr>
          <a:xfrm>
            <a:off x="757080" y="3962520"/>
            <a:ext cx="343404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at is Carrying Capacity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419720" y="2193480"/>
            <a:ext cx="449568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Carrying capacity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s the number of individuals of a species that an ecosystem can support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" descr="C:\Users\avandegrift\AppData\Local\Microsoft\Windows\Temporary Internet Files\Content.IE5\66PBTUUR\MPj04068550000[1].jpg"/>
          <p:cNvPicPr/>
          <p:nvPr/>
        </p:nvPicPr>
        <p:blipFill>
          <a:blip r:embed="rId1"/>
          <a:stretch/>
        </p:blipFill>
        <p:spPr>
          <a:xfrm>
            <a:off x="457200" y="279252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4617b"/>
                </a:solidFill>
                <a:latin typeface="Calibri"/>
              </a:rPr>
              <a:t>Limiting Factors of the Cedar Glade </a:t>
            </a:r>
            <a:r>
              <a:rPr b="0" lang="en-US" sz="3800" spc="-1" strike="noStrike">
                <a:solidFill>
                  <a:srgbClr val="04617b"/>
                </a:solidFill>
                <a:latin typeface="Calibri"/>
              </a:rPr>
              <a:t>Activity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 nature, populations of organisms rarely grow uncontrolled.  Each ecosystem has a carrying capacity (or number or organisms it can sustain/support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member, limiting factors are biotic and abiotic factors that prevent the continuous growth of a populatio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ecause of limiting factors, the number of organisms in a population is often well below carrying capacity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Limiting Factors of the Cedar Glade 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Activit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5235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s activity will look at limiting factors found in the Cedar Glade ecosystem, and their impact on population growth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2" descr="http://www.apsu.edu/baskaufc/cedar-glade-wet.jpg"/>
          <p:cNvPicPr/>
          <p:nvPr/>
        </p:nvPicPr>
        <p:blipFill>
          <a:blip r:embed="rId1"/>
          <a:stretch/>
        </p:blipFill>
        <p:spPr>
          <a:xfrm>
            <a:off x="533520" y="2971800"/>
            <a:ext cx="5429160" cy="3581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50birds.com/uploads/Byuboy54/2004-10-22_164458_Hooty,-The-Barred-Owl-contest.jpg"/>
          <p:cNvPicPr/>
          <p:nvPr/>
        </p:nvPicPr>
        <p:blipFill>
          <a:blip r:embed="rId2"/>
          <a:stretch/>
        </p:blipFill>
        <p:spPr>
          <a:xfrm>
            <a:off x="6629400" y="2438280"/>
            <a:ext cx="1828800" cy="2827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http://kids.nationalgeographic.com/staticfiles/NGS/Shared/StaticFiles/NGKids/Image/wildmouse_lg.jpg"/>
          <p:cNvPicPr/>
          <p:nvPr/>
        </p:nvPicPr>
        <p:blipFill>
          <a:blip r:embed="rId3"/>
          <a:stretch/>
        </p:blipFill>
        <p:spPr>
          <a:xfrm>
            <a:off x="6629400" y="5410080"/>
            <a:ext cx="182880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details of the activity…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http://www.friendsofsherwoodisland.org/Photos/Hand/BoP/AJH-BarredOwl-carryoff.jpg"/>
          <p:cNvPicPr/>
          <p:nvPr/>
        </p:nvPicPr>
        <p:blipFill>
          <a:blip r:embed="rId1"/>
          <a:stretch/>
        </p:blipFill>
        <p:spPr>
          <a:xfrm>
            <a:off x="380880" y="1828800"/>
            <a:ext cx="8339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13:44:07Z</dcterms:created>
  <dc:creator>User</dc:creator>
  <dc:description/>
  <dc:language>en-US</dc:language>
  <cp:lastModifiedBy>User</cp:lastModifiedBy>
  <dcterms:modified xsi:type="dcterms:W3CDTF">2009-11-30T23:24:32Z</dcterms:modified>
  <cp:revision>11</cp:revision>
  <dc:subject/>
  <dc:title>Limiting Factors</dc:title>
</cp:coreProperties>
</file>